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dt" idx="7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 type="ftr" idx="7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 type="sldNum" idx="7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728B-B051-40EA-98DE-DC90996EF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7030-2767-4DB6-860A-C4B511FE7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8393-D965-4FB8-9992-F6913149E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E534B-0093-4C61-A8EB-D35E5E900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41613-93C3-458D-B912-984F859A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8A3B57-BBDE-4459-ADA1-E1CA72B0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C02504-040C-4C5C-BD7C-A4CA5D99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FF7B6E-4CFC-448F-B70E-2D836A9C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D4A074-5447-4930-8788-41FB8361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144652-64CD-4218-8A9B-D9411D95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0C71D5-0FA9-4DF5-AE15-69FA2FBE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6C1F91-D73C-4C89-8F8F-04166505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A50968-8A7D-42FC-882E-E983C062C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3C07CF-136A-4FB2-AF70-07F27A06A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CF758E-B852-4546-AC9B-3737E9374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B7830-669A-4977-B83C-2C6FE8645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72B80B-3D83-4A43-86F2-937EB95E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EFED80-8825-43BC-A6D5-08E1F3FE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3BD36E-E9A3-4715-A08F-979F3EA7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D901A3-7B2F-4ECB-9D53-46563C08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DEC117-E933-4A07-940A-A157F62B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14CF6E-CF10-46C7-8E6B-4B65C452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1CE9CF-A1AA-45D4-AF1E-78217929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B813BA-1D6D-4099-B138-4DF46125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264F26-F646-4C04-A563-73FAB8D9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A460D3-B57C-44E7-A9C0-AC3EC8291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AF785-33D3-4917-8621-BB53AF1BA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6168EC-599F-4307-8036-8F7A64677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6E59E86-6F67-4F68-995C-9C6584A01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6BC5B28-D172-413C-9F2C-A924CBA9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CA5C5F9-7EBD-4B27-9FFA-4640593A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987CD07-0DAE-4ADC-B419-974F8FA7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14BC735-4B98-4A2E-A160-BCC80FAB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BD1BB0D-F272-4085-8F7D-0F7A5D6C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1DE40E4-C84F-4D06-A6D2-8134E896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CDEB32C-1B31-4F81-B893-2672FF03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FA6882F-69BD-4DDE-80D5-FC7990B4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AFD2-F336-41E3-8767-A71EA2F3A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6EC85D9-575B-482A-9482-9EACC72E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ABA0DDA-0801-4CDA-9ADE-1A1D6F0D7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85F012B-4C7B-4764-BB7D-28D219AA8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E62648-4196-4856-BB38-23CAE66E8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208833-C502-46E0-A1C5-7642F640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AFCB72-33BB-406E-9019-3E2423B0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DDDBE5-C76B-4199-A603-88AB707C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705E01-BDE4-421B-8D7B-6C106AFF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06DC09-F9E4-49F5-850D-1AB05EFB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5CD3E7-8507-4C00-A4C6-CC429840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2FD5-986D-4E72-983A-608F5A86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BBB0F7-5BD9-4DC6-80A6-1910A821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E78581-009D-4201-9C6A-2E41B606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FA0BE9-ACEC-45CC-A461-F9663312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1F55EE-C379-46A9-8E4B-ED29243D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46B3A1-EA89-48FF-ADBA-390C40D89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8941186-D55A-4BD9-8DF7-5AFE8BCE8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6556268-E23B-4702-A351-2E344D40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7764C31-283E-4BF4-B2F3-631C11EC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78B858D-F676-4E8D-98CC-96FE3450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2AA603C-A6E6-411C-A061-91A24EEE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8774-5941-4EB0-8CB9-2B31DA1A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A44D23C-73E3-4A63-84B8-D6A394D3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8A7BD90-E358-480D-B205-D1CB6EDC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52DD97B-CEC7-42CF-8BF8-EDE030A6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9031B9F-A864-40DD-8AEF-79F6783A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39811FF-4EF9-45B4-9309-2C126228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4EA54E3-C3CF-4E8A-8193-A5FD4E3C5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6DC0A76-3342-4339-93F4-C61D219A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37CEA11-2B47-46D9-BB0A-1C10E0395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0370D0C-5BF8-45D2-9580-0DD98C00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2755A5F-4E0A-43F0-A3D2-A4C35A69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0E77-BEF5-448D-8D03-B435E443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F8E5671-074D-4B88-AD0B-5559F392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9673A79-0A31-46DD-9A1F-E704D079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88B86F4-42C8-4352-A4FA-536D6ABA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728E68A-BF70-48A0-9B82-960D0574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6D9E21F-5BB4-45E3-8123-DFDDF218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5AA4BDE-FF8B-40E2-8F10-530B5DF2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DAFD4F3-7014-4E15-887D-C90F6B4A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BA7AB82-BD0D-4EE2-8A83-D8B35A56F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01BD851-018F-40BE-A3C6-018813798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BA24EF3-D17C-4C8A-8CD2-CAAACAD76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8545-1ED6-4111-A8FE-751FBE22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37C53F2-156C-4BF7-874C-80E64C7D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A540DA3-01EA-4610-9F50-6E55E7E0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90A91B3-4348-4ECB-AF2C-1DC53E64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094317F-22FF-4848-ADAE-4E25BD8B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801A398-01C1-437C-99D6-74212DBF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B8E55C3-BD59-4648-87E7-2AAC73A3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3B44C80-A433-46F8-AA86-DC335D72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6BC47FA-ED69-4401-BE4C-D8C7D481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238B37E-09C1-41D1-91F9-0E149D55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49603B2-B61F-4737-BEFD-74ABF78BB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27EA-24C5-4B7D-BD81-5B61D5EB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2D23A85-EEE7-4E38-9641-35604A661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9849EF5-9513-42E7-A64D-186FA1B3A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80DB8C7-B74D-4774-A5A2-6787A491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75C0BA9-F70E-4A1D-973D-094C34D6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E2797EC-95AC-4790-BDC8-324F1CB4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33AAC18-8FF3-4238-B876-FCE95A33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AA3C098-F238-49EA-B066-CFF0ACB2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9C710C0-4C23-405D-A76D-FE0C6AC5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AFCE970-8B41-407D-8C50-A0B4852F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CD6FBF9-62FE-4C4C-8B0C-28AD946E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04E8-1B60-481B-A6C1-FE58FBC0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953D833-9887-4243-9A80-E3D5065A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9162CBA-878F-4495-91BF-A2ED2F3C5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378550F-C743-4738-A150-24C8D512E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C326595-2798-4F14-9E45-B1B1EAD0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C977ACD-747B-405D-8C21-DB076A36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B20C850-481B-4694-A695-2A1990D5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656B17D-D402-4C26-A83B-3A2205AB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E96A613-3AFB-43F2-B69B-8DA4E4AB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8E2E93D-9DD3-4ACB-86DB-9B52EFE1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263BF1E-F59A-4DB1-9C27-AA1DADFC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2C7B3-ED37-4B6F-9E66-11187F47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399B-2538-49B5-A3AF-1A7A0D58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BD24F4E-42A2-4767-88E5-4B436F83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8E154D5-F20B-4450-A0A5-5DA7578A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34067EB-8D45-4C86-87D0-F095A1CF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66883D4-BB53-498C-8A08-8C55F40D2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DCC9585-2276-465C-95D0-EEC3B85CB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C773ADA-A44A-47D9-BAC6-6FF9E479B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2B227E0-01B8-42EC-83C9-3B658B28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97ACA33-948F-4E00-9B72-999B6E16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82463D4-26D9-4320-AB2E-91C2C87A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5998EB1-4B6C-44B4-BB19-0A0543AF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0825-94C2-4531-A471-19D9A003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81D6C4E-3E0F-44C3-991D-55480A18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2753D24-C536-473E-9067-05367864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7CA0D56-5DE0-43DD-B321-DB2CD54A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5C37406-A1FE-40A2-B80E-647A16D3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53D4527-7C21-44C7-A3F5-E2DFAE2D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19EFE62-C146-400C-BE50-AA3E9B66D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475131D-3E07-4913-9395-5E589C4FF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F6C5590-413D-43B5-8C33-4F2457AE8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3E520CC-9E16-4B15-A803-F04BEF3A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88BBA92-F896-46DF-BA2C-7D8AE5F4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29B1-FA98-402C-81AA-370459E6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CA6161E-E02B-48B3-ADDC-88A9D0D8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52BD366-9E37-4550-953B-04535CAD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045C36B-DACA-413B-825E-6095FA6A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8321DEF-CCCA-4957-B505-3C0313CC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C54F450-145F-43D7-BF3A-14261123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3FC601E-2B00-4513-BE19-1F206D86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E4B2A36-E05D-4B5B-8647-E7A42587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98EB532-3826-41E1-A721-FFB0D865F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27408C0-8CCD-45E9-82D2-0EB76DB00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DD00986-EE38-495F-BCAF-7E6152610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638B-E02F-40CF-9A5C-3B0851CE8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7333157-E18C-466E-A17A-2A5970C2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DBC9DC5-E44A-4276-90AE-BDB36FA6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88269EB-BE03-4BD5-BB46-122C206E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EBAD950-C698-4A40-9D99-C3AADF26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2B206ED-F90F-4FE4-8638-810DB303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F94610B-42B8-4E38-84A4-0D13CB1D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F8F3B7D-9A98-4B65-B819-6B8B28BA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DFD975C-9B0E-4E27-BF76-B03EE520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5D635EA-20FE-4F1A-BAAF-340A5CC8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9CA1270-02DC-4352-86A3-C4A0579BE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176B-0F24-4088-9CBD-E55897365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39088D0-FF0D-41E3-A244-C00DB9928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AB945B8-5634-4C9A-A32A-87084FCF1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EAC4C0D-BEC0-48AF-A060-0D461452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BD3B956-BDBD-4147-9B85-A11E24C6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694EB27-56B6-423A-A87F-00363AE8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E9D5C8C-15E0-457D-9657-C6798641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26E28D6-71C9-4AFE-BE0F-BC0E5738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F0A9610-4405-4951-B629-70840B08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BEAC66E-7B9A-41C1-965C-E930B437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D75B4EF-AD7D-494F-8661-2B36B5FC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F49528-2CD3-48B9-933A-1CBB5CBD4047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4C22304-806C-468A-87C1-2F9117B1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D2B7367-B281-4AE0-943E-43213AAD0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A9217B5-186E-4604-BFE5-1DBA61FB8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400211A-7680-4A47-9988-BDC340DB8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45FB6E0-D316-40A1-B937-3BC2883A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48C7C97-F12C-480C-AF5C-B4A91F4A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3A07BB2-FF2C-4A16-B00D-316E55F4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D834144-C6D4-4730-A0F7-72D60091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6EADC06-BDE4-4973-8FEA-0B357318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AC587E4-E8F0-477A-9789-FD95565D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B08FE8-0822-44D3-AC6A-018FDE6004E3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30A653F-9852-4266-A5CB-91A341E2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49AF85E-9232-4A14-A42F-03FD955F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6E6D121-6415-466C-96EB-1DF1BEE8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4A2C741-96F4-4BAA-9057-6B39C9364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28D9A3B-DDC3-42BC-9CB8-081363EE4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2455D0E-A2BB-432B-9C49-E6A7127FC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691F59A-D32C-4A2E-B145-1A3DFCB7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EEF96E2-1861-45BA-9FDC-CBCFA31F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81833D4-986F-49B2-9CDA-BAF63E9B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13C7150-C3EB-4C99-9A23-F1CD0E45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444709-2F48-42AF-BE7E-57C6552CF7E1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5C2B95C-266D-44EA-8813-C7421E9A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F0D8B85-CA7F-4413-85D3-2465494E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114FA8C-9118-4190-A05C-846FEE83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143572B-654F-4EE2-8FB4-ECD83926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7FEE64C-0409-45D5-AEBD-4AE0B57F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3BDDCDB-FCEA-4E58-A1DC-4B669ABF6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2580741-B334-45A2-A6F9-51B8E1C1C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FB11FC0-8FCC-4B8B-8F7C-BFDB7ABD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C9AF38B-5884-4CA0-A9C0-B52BDD4D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1E66FE3-FB7A-4675-A5DA-27034D3F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08332C-A171-47B7-8DD1-5091D7037E1F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4EBE24A-5ECE-49D3-91C6-0EBFEA2A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40B332A-BA6E-4A0E-BFCC-B763EAD7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49B9DD9-D8C5-4582-9ED1-2879987B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4EE7E67-D947-410C-9C40-E624525E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D004C8E-6566-4653-B1F1-C525AE31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91559E0-9E47-4B82-A4E5-63044F09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ABDF91C-E9AF-400F-8DA3-D8F80590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8A277CC-889F-43C7-8094-5C2063497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206A634-BFC6-439B-A93C-1B6FC52E7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F613D2-D9AC-4BD6-BABC-BBC2FD777E3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71F773-3AEE-44B5-9AD6-8885879CAD39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5DB80E-9051-4049-B87F-31912B0AD96C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2D53A9-7FC8-4A55-88E3-943A477910A5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AF5841-218C-42D5-98C5-E659FA849DD4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27EA8D-5490-4F81-B6C7-4929B927F198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E1B64F-E87B-49F5-8294-38B217A47B38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FCAEAC-F1A1-44C8-91DB-2D9F1B91DE63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F7EBE5-6A1F-44E2-ACEA-786BF55A8D3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0FF24B-E1E9-4C13-BDFB-F1360C99C3D0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8D87F09-8A8E-453B-9F2D-E329280B4E5E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3EF9C0-6A29-4CCF-B93E-FFA8339629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1AF8A-593B-4270-BEB9-30ECDF8E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BA023F-5173-4351-A859-D002FE7299EB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4ED46E-2757-4038-B984-4B3CFDABE39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C13A64-B9E6-40A6-8FFB-48A4D3AFDE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092A66-1F85-4AC8-A597-F4F97EA2C86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01411D-600F-4F9F-A6E0-E7E04DBA673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183316-FD08-4CF4-8A37-1A199D4352B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24F524-1383-4A04-A4E5-E560CFC7EF5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43DC96-D555-4714-A5AE-33549B937A2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F22FF5-D4EC-4C2E-AEDA-3B17AB54B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B82DC9-74CA-48A9-A382-F046CD3F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D95FBC-B1C4-4E82-B626-8298A8B3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3D901-DC61-4119-91A1-DC9447E9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A87713-EA22-4173-A34A-97DFA802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05389F-8036-4D8F-A0BD-C2490092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049203-F20F-4EF8-8D2A-2114C57D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0BD07B-C7D1-4BAD-BC4F-D581CF9D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8AB70B-0837-484C-8D1C-D6337506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CC2C30-DB35-41E4-B9E0-03C9E662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5488A9-882B-4A9B-A5ED-49BE1BFC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89E67A-331C-47ED-A405-B351E5B4B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BC590B-5B9C-4287-B300-640E7D933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668E28-29C4-4D2D-B9F1-1F4444E33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5E7F3-D77E-4F44-8318-5C3E6A68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EDB04E-0CDD-47FE-97A5-888F3598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D361A6-6A82-4DAB-B0B6-F5B5497C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3D28E7-AF5B-4E09-BA63-1132B836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1C27F0-7DB4-4E85-A3B5-5A8F4C76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5F2F3F-58F0-455E-8757-DE73E882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DA6E66-0B60-4DEB-BC7F-1268B473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A37AB1-F0FE-4D4B-B715-6AEBB192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396F62-13B0-4A62-B865-D58D6D1C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A52B3D-C986-47BA-8AB8-90C23033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0E38D8-EE55-4BF3-948F-EBEAF8FAD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A3893-560C-4B5A-895F-9002D9F0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4B305C-81EC-4365-88D3-3DF6C083B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A31EB1-E178-4BB9-B5A7-901DCBCF6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98355A-133F-4F8A-89A4-14B96BA9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9B60F9-A0CB-413B-80EB-95EDEC8A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36E89F-7AD1-4A3B-B949-11BB5934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6F10C1-1FB7-4FBF-9DED-8A389D75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8E2406-40DD-44DB-9940-EFE39C9B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192D54-E3FF-448D-865D-2F7A02AD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9117B3-B8BA-436E-B78B-1D3C00A1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A7423A-5FCC-45D0-A222-DF11A04E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374AD-33E3-469D-86CB-5E4295DA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81C080-29F8-499E-A88B-2CD1A95F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90893C-D577-482E-A144-BB09D70D9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37ACAF-D87B-4AB3-8542-A4CC6BD12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CE4CA6-F953-4B10-88C6-7EC34C96C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111D3F-3886-4ACA-BF69-0B150F7D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C38655-5EC5-42EE-A208-6B27E67D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B71497-31ED-4220-8604-04C47824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64FA7C-B32C-4908-92A9-306B870C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85457F-3117-4727-8B25-8CF1CD91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576C9C-C68A-4D25-A221-B4BFD4B7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3E4EE-6721-4C34-9925-84F86AD9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F95254-F13F-46C0-B7F9-4CB6694C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99BC52-1A1E-4412-B947-F44DC859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8D7E02-CE1D-408E-8381-6CEAD7CD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15C103-EE29-4828-86C3-4DBB44D8F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16D4A8-CFDC-4B6B-AEFE-5B0253C87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C2FC36-2E36-4A08-A00B-E06EE62A8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AD5F27-2A3A-44BE-8B8F-BBEB11B2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DB06D0-9E6E-47A9-BDF9-B2E9638F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10B5D4-A5F7-48B2-8976-CA647C4A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23FD6A-B41A-4C60-9155-7EB74722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5FA51-42C3-4F66-B83D-686664E6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8DEFD4-8353-45B1-A102-59169B71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EE9442-FFA5-4E63-AB28-BE625226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5990B5-9152-41FD-B3C6-D218EAE2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EA44F4-7E45-4D11-ADFE-A24878AA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4D04C9-2D7B-4095-990B-48F2CFED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00EA26-78DB-4582-8340-5E8980CF8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17C525-ACA9-4DE4-A7FE-2063EA8D1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7DDE0F-35F0-445A-B41E-1F9048AEC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B551C6-4E3A-417B-B49C-8378D694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7FA83D-1415-49A7-AF25-3CDD4F4D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19F7-E224-43FE-A489-FECF780A7A40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7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8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D206-C271-411D-9349-3ADBB86A9365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29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0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sldNum" idx="31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10E3-E13F-4412-8811-FEA977971CC8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ftr" idx="32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3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sldNum" idx="34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8453-CC76-4B17-8816-C12BF19AE440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ftr" idx="35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6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sldNum" idx="37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2FAC-3CC9-4C0F-89E8-5653CF082991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8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9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0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1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405B-378E-4F60-A1D3-AE6B28C4FD8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4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4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AC80-FD16-49D1-AFBB-33D9D071A73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45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46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47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DD74-F7D2-4D29-B465-1BA45DE6AD26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4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5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BB09-A8A0-428C-A91E-DA8A8476E64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5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5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5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5C2E-4FAF-46BC-BEED-340C10013C2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dt" idx="5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ftr" idx="5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sldNum" idx="5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DFB4-A704-4AAE-828E-7C5AFC310F4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3A86-E615-43F9-85B3-1AD9A5B70AC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5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5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5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457E-1577-4487-98A1-6B2E8DB0F6E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dt" idx="6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ftr" idx="6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sldNum" idx="6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547B-5380-4920-9FEE-2CF7208966F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 type="dt" idx="6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 type="ftr" idx="6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 type="sldNum" idx="6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8029-A228-4CB2-B09E-AEB849A431AF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dt" idx="6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ftr" idx="6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sldNum" idx="6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FE26-9EC3-472A-86D7-5CD6EB1A1E7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6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7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7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6A27-82ED-40C3-8A64-ABA6850499F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1013" name="Rectangle 7"/>
          <p:cNvSpPr/>
          <p:nvPr/>
        </p:nvSpPr>
        <p:spPr>
          <a:xfrm>
            <a:off x="1905120" y="57150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9"/>
          <p:cNvSpPr/>
          <p:nvPr/>
        </p:nvSpPr>
        <p:spPr>
          <a:xfrm>
            <a:off x="1828800" y="5105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Editio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10"/>
          <p:cNvSpPr/>
          <p:nvPr/>
        </p:nvSpPr>
        <p:spPr>
          <a:xfrm>
            <a:off x="18288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ECTRONIC COMMERC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11"/>
          <p:cNvSpPr/>
          <p:nvPr/>
        </p:nvSpPr>
        <p:spPr>
          <a:xfrm>
            <a:off x="1828800" y="43434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rom Vision to Fulfillme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14FC-7535-4C8A-AE54-A049CA4B41DF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ftr" idx="73"/>
          </p:nvPr>
        </p:nvSpPr>
        <p:spPr>
          <a:xfrm>
            <a:off x="3124080" y="6244920"/>
            <a:ext cx="335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1905120" y="57150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828800" y="57913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ias M. Awa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1828800" y="5105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Editio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8288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ECTRONIC COMMERC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1828800" y="43434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rom Vision to Fulfillme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C3D9-237F-4AD6-8578-5EB0C751EE7D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335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10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7B08-CFB8-4093-B21A-32E55237A642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2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3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729F-9C6E-4E1B-B7FD-60EFE357C9C0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5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6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7338-9E40-405E-AC6E-FF99A14DE7DA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7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8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19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C6BD-CA2E-4C08-BCB7-A43826F892B1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20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1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22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5BCA-0856-43FD-8CEE-A91CDBEC5955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ftr" idx="23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4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25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6B84-A0EF-4361-B8E8-AE3A46218B9B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ftr" idx="26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62AB-6593-4AE3-BAD7-F89B5B298335}" type="slidenum">
              <a:rPr b="0" i="1" lang="en-US" sz="1400" spc="-1" strike="noStrike">
                <a:solidFill>
                  <a:srgbClr val="99663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12"/>
          <p:cNvSpPr/>
          <p:nvPr/>
        </p:nvSpPr>
        <p:spPr>
          <a:xfrm>
            <a:off x="3124080" y="6245280"/>
            <a:ext cx="3353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7"/>
          <p:cNvSpPr/>
          <p:nvPr/>
        </p:nvSpPr>
        <p:spPr>
          <a:xfrm>
            <a:off x="380880" y="228600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Future Trend – Social Commerce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Bookman Old Style"/>
              </a:rPr>
              <a:t>To address these challeng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During portal design, the following steps need to be followed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cilitation of planning and contro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inimization of information redundanc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tegration of process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fficient metric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ersonalization/Customiz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eedbac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8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0817-222A-4849-9F46-C9FE4CFE3F04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64653"/>
                </a:solidFill>
                <a:latin typeface="Bookman Old Style"/>
              </a:rPr>
              <a:t>Future of social commerce</a:t>
            </a:r>
            <a:br>
              <a:rPr sz="2800"/>
            </a:b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457200" y="9144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Gill Sans MT"/>
              </a:rPr>
              <a:t>Sometimes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known to be effective only for impulse purcha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a balance between data privacy policies (EU fight against googl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More B2B transactions in fu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B2C transactions increasing at faster r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Regulatory and privacy policy to be tighten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Maintaining trust with transparenc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3-D effect on products to be so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Huge user base and hence ability to make meaningful data analys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New marketing techniques such as Cash On Delivery (COD) will help induce more purcha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2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A284-5A15-4D68-8895-48439B275F95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64653"/>
                </a:solidFill>
                <a:latin typeface="Bookman Old Style"/>
              </a:rPr>
              <a:t>Case: Halfmantr, Traveltriangle and Lenskart</a:t>
            </a: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457200" y="5335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For each cas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Discuss traditional supply vs online purchas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464653"/>
                </a:solidFill>
                <a:latin typeface="Gill Sans MT"/>
              </a:rPr>
              <a:t>Issues such as mindset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464653"/>
                </a:solidFill>
                <a:latin typeface="Gill Sans MT"/>
              </a:rPr>
              <a:t>Face to face consultation vs online chat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464653"/>
                </a:solidFill>
                <a:latin typeface="Gill Sans MT"/>
              </a:rPr>
              <a:t>Feel vs 2D online display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464653"/>
                </a:solidFill>
                <a:latin typeface="Gill Sans MT"/>
              </a:rPr>
              <a:t>Element of doubt regarding customer satisfaction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464653"/>
                </a:solidFill>
                <a:latin typeface="Gill Sans MT"/>
              </a:rPr>
              <a:t>Promotion policy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464653"/>
                </a:solidFill>
                <a:latin typeface="Gill Sans MT"/>
              </a:rPr>
              <a:t>Less margin initially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Funding issues with such firm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Achieving break even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Retaining customer – customer loyalt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Risk involved in this model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Privacy issu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Financial data securit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Integration of social network with the sit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464653"/>
                </a:solidFill>
                <a:latin typeface="Gill Sans MT"/>
              </a:rPr>
              <a:t>Using feedback to improve quality of deliverables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464653"/>
                </a:solidFill>
                <a:latin typeface="Gill Sans MT"/>
              </a:rPr>
              <a:t>Using social platforms for promotion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1106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629D-0D62-4995-B6F3-703A378DCF06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Summar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ocio-commerce is the way to make e-commerce a sustainable mod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ustomers who will enjoy discounts, free shipping, cash on delivery, and experience of a product without touching 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enture Capitalists, including Tiger Global, has been increasing their investment exposure in internet busine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ecurity risks that can put the individual or a company in a compromising position or at serious ris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best practices can be standardized and updated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9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2DB4-8A1F-4A16-A135-08404273EDDF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Learning objectives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chapter will discuss the following concepts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hat is social e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How do firms get benefits out of i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Value addition from social 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trategy for social 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9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C43E-6ACE-4AD8-B4D6-5A02B52CB41B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Introduc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457200" y="123516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Ecommerce </a:t>
            </a: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termed as innovative,  expansive, immature, FAD’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In spite of dot com burst e-commerce was revived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Today customers have become tech savvy and are willing to spend time online 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Customers willing to purchase through online even if they are illiterate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ubiquitous internet changing behavioural pattern 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Online Indian social life has taken the lead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Ecommerce with online social life is called socio-commerce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Socio commerce uses potent technologies and harness social media to organize the business strategies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managers use social power and reframe their policies and strategies 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This approach shows authenticity, fairness, transparency and good faith to its stakeholders</a:t>
            </a: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	</a:t>
            </a:r>
            <a:br>
              <a:rPr sz="2100"/>
            </a:b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 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1072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739C-7CC6-437D-998F-411990072773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 txBox="1"/>
          <p:nvPr/>
        </p:nvSpPr>
        <p:spPr>
          <a:xfrm>
            <a:off x="30492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electronic commerce with social networking network sit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ubset of electronic commer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Also involves social networking sites (onlin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ocial interaction and user contrib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a set of online collaborative shopping tool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Also available - information on different products and services as experienced by these us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user-generated reviews, com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contents that can act as ‘free advertisements’ for different produc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Using these comments prospective buyers can buy these products and servic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4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4A1D-DB47-44AC-9CC1-F44F0F85880E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440" y="318960"/>
            <a:ext cx="6280200" cy="1114560"/>
          </a:xfrm>
          <a:prstGeom prst="rect">
            <a:avLst/>
          </a:prstGeom>
          <a:noFill/>
          <a:ln w="0">
            <a:noFill/>
          </a:ln>
        </p:spPr>
        <p:txBody>
          <a:bodyPr tIns="15228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64653"/>
                </a:solidFill>
                <a:latin typeface="Bookman Old Style"/>
              </a:rPr>
              <a:t>Understanding Social Commerce</a:t>
            </a:r>
            <a:br>
              <a:rPr sz="2800"/>
            </a:b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64653"/>
                </a:solidFill>
                <a:latin typeface="Bookman Old Style"/>
              </a:rPr>
              <a:t>Understanding Social Commerce</a:t>
            </a:r>
            <a:r>
              <a:rPr b="1" lang="en-US" sz="2800" spc="-1" strike="noStrike">
                <a:solidFill>
                  <a:srgbClr val="000000"/>
                </a:solidFill>
                <a:latin typeface="Cambria"/>
                <a:ea typeface="Arial Unicode MS"/>
              </a:rPr>
              <a:t>..contd..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these online marketing sites 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an be accessed from the social networking sit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llaborative e-commerce tool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Prospects use these tools to get advice from trusted individuals, find goods and services and then purchase the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Using these collaborative tools manufacturers have tried to improve their product feature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ervice providers use these tools to improve service levels in their supply cha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xamples of these tools - customer ratings and reviews, user recommendations and referral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ocial commerce is a collaborative networks of online participants such as vendors, users etc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ocial shopping as collaborative activity of online shopp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9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4A7A-1E30-48D3-BE42-E425BA1BFDA9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Bookman Old Style"/>
              </a:rPr>
              <a:t>Evolution of </a:t>
            </a:r>
            <a:r>
              <a:rPr b="1" lang="en-GB" sz="2800" spc="-1" strike="noStrike">
                <a:solidFill>
                  <a:srgbClr val="464653"/>
                </a:solidFill>
                <a:latin typeface="Bookman Old Style"/>
              </a:rPr>
              <a:t>social commerce 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457200" y="10663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Started with social networking sites such as faceboo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Facebook commerce (f-commerce) has become popula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Collaboration amongst customers, suppliers and retailer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Retailers are looking at having their own Facebook pag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consumers can take buying  and purchase decision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Creation of virtual marketplace with social shopping websit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ill Sans MT"/>
              </a:rPr>
              <a:t>Social Commerce important dates (please refer to the chapter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3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8DC0-CE30-44DE-AB67-3D0DFA4A75BA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64653"/>
                </a:solidFill>
                <a:latin typeface="Bookman Old Style"/>
              </a:rPr>
              <a:t>Features of Social Commerce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Ratings and reviews for the products and services by user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recommendation technology featur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get product recommendations based on their own interests, preferenc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Customers likely to check online for reviews prior to making a purchas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networked users generate new ideas, advertise, and create added value at virtually no cos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increasing efficiency by understanding customer needs, identifying potential customers &amp; building customer loyalt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64653"/>
                </a:solidFill>
                <a:latin typeface="Gill Sans MT"/>
              </a:rPr>
              <a:t>Ex: Volkswagen launched an ad campaign using YouTube, focusing on ecological concerns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64653"/>
                </a:solidFill>
                <a:latin typeface="Gill Sans MT"/>
              </a:rPr>
              <a:t>Volkswagon utilizes these ideas and incorporates it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Facebook ‘Like’ Button on the product’s web pag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Better Understanding of the Consumer’s behavio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Instant Personalization of the user experienc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Brand Growth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7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7FEC-958E-4590-945A-3B32FCE44C9C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Advantages of Social Commer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ensures a personalized shopping experie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access to the customer’s social graph and interes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retailers can develop promotional strategies and plans that suit to the customer’s preferences and interes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Creates communit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Manintains direct contact with ‘Communities’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The community can exchange reviews about the products they have purchase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ocial commerce also creates a trusted environ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makes the experience seamless for a customer right from providing the content, product reviews, payment options to final purcha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1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D5AD-256B-40C2-9A73-140E2A523520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64653"/>
                </a:solidFill>
                <a:latin typeface="Bookman Old Style"/>
              </a:rPr>
              <a:t>Trends and the challenges of social commerce</a:t>
            </a: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Moving Away from the Traditional Medi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Offering a United Shopping Experien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Privac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Customer Engageme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tegrate the payment gateway inside the Social Media network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acebook’s security issu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ools for social commerce change rapidl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hidden soft cos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Building a strong relationship with the customer takes tim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ustomers can express their disappointment and negatively impact a brand’s reput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Usability testing is complex and requires advance skill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Need domain knowledge to have effective data analytic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5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2T00:21:47Z</dcterms:created>
  <dc:creator>RGPlatt</dc:creator>
  <dc:description/>
  <dc:language>en-US</dc:language>
  <cp:lastModifiedBy>Sanjay</cp:lastModifiedBy>
  <dcterms:modified xsi:type="dcterms:W3CDTF">2013-04-10T18:29:41Z</dcterms:modified>
  <cp:revision>451</cp:revision>
  <dc:subject>Awad 3rd ed</dc:subject>
  <dc:title>The Dawn of a Maturing Indust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